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gif" ContentType="image/gif"/>
  <Override PartName="/ppt/media/image10.wmf" ContentType="image/x-wmf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FE4-E0BB-499F-B206-47CE7EC1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663-0F32-4301-9A48-88F9952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CC1-2C78-48E3-ACBE-14BDA92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372-7321-4818-B016-769D203A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4E4-CDCF-4FF6-BDA6-243918F8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B84-7CAB-4DDC-8052-990C4B17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8B5-2855-47D6-A735-3232A8D5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07D-26C7-45E8-9A80-7E7FC05E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469-A161-4FBB-8BEB-63AEF081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1B1-0425-4668-A584-1986D82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279-30D2-40DC-B99F-4DB7C35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0C2-D21E-4739-BA6A-7A95E92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1B2-E8DD-4925-9042-8BE52BA5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304920" y="1022400"/>
            <a:ext cx="5331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09480" y="874800"/>
            <a:ext cx="60984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2895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第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18</a:t>
            </a: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章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  <a:ea typeface="黑体"/>
              </a:rPr>
              <a:t>命令模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19520" y="546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刘    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eiliu_china@yahoo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命令模式的本质是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对命令进行封装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将发出命令的责任和执行命令的责任分割开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每一个命令都是一个操作：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请求的一方发出请求，要求执行一个操作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；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接收的一方收到请求，并执行操作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命令模式允许请求的一方和接收的一方独立开来，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使得请求的一方不必知道接收请求的一方的接口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，更不必知道请求是怎么被接收，以及操作是否被执行、何时被执行，以及是怎么被执行的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命令模式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使请求本身成为一个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这个对象和其他对象一样可以被存储和传递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命令模式的关键在于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引入了抽象命令接口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且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发送者针对抽象命令接口编程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只有实现了抽象命令接口的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具体命令才能与接收者相关联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抽象命令类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2930400"/>
          <a:ext cx="7391520" cy="140832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141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class Com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void execute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调用者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847960"/>
          <a:ext cx="7391520" cy="371304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373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Invo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private Command comma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public Invoker(Command comm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this.command=comma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public void setCommand(Command comm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this.command=comman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业务方法，用于调用命令类的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call(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command.execute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具体命令类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847960"/>
          <a:ext cx="7391520" cy="277344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278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ConcreteCommand extends Com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rivate Receiver receiv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execu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receiver.action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典型的请求接收者代码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2819520"/>
          <a:ext cx="7391520" cy="243180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24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actio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具体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命令模式顺序图 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523880" y="2847960"/>
            <a:ext cx="63453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电视机是请求的接收者，遥控器是请求的发送者，遥控器上有一些按钮，不同的按钮对应电视机的不同操作。抽象命令角色由一个命令接口来扮演，有三个具体的命令类实现了抽象命令接口，这三个具体命令类分别代表三种操作：打开电视机、关闭电视机和切换频道。显然，电视机遥控器就是一个典型的命令模式应用实例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电视机遥控器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18 Command\sample01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3325680" y="3762360"/>
            <a:ext cx="2160360" cy="812160"/>
            <a:chOff x="3325680" y="3762360"/>
            <a:chExt cx="2160360" cy="812160"/>
          </a:xfrm>
        </p:grpSpPr>
        <p:pic>
          <p:nvPicPr>
            <p:cNvPr id="136" name="Picture 6" descr="gif005"/>
            <p:cNvPicPr/>
            <p:nvPr/>
          </p:nvPicPr>
          <p:blipFill>
            <a:blip r:embed="rId1"/>
            <a:stretch/>
          </p:blipFill>
          <p:spPr>
            <a:xfrm>
              <a:off x="3325680" y="376236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3686040" y="411480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教学内容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动机与定义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结构与分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实例与解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效果与应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扩展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二：功能键设置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为了用户使用方便，某系统提供了一系列功能键，用户可以自定义功能键的功能，如功能键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unctionButton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可以用于退出系统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SystemExitClass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也可以用于打开帮助界面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DisplayHelpClass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。用户可以通过修改配置文件来改变功能键的用途，现使用命令模式来设计该系统，使得功能键类与功能类之间解耦，相同的功能键可以对应不同的功能。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命令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二：功能键设置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88520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命令模式的优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降低系统的耦合度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新的命令可以很容易地加入到系统中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可以比较容易地设计一个命令队列和宏命令（组合命令）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可以方便地实现对请求的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do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do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命令模式的缺点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使用命令模式可能会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导致某些系统有过多的具体命令类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因为针对每一个命令都需要设计一个具体命令类，因此某些系统可能需要大量具体命令类，这将影响命令模式的使用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适用环境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以下情况下可以使用命令模式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系统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需要将请求调用者和请求接收者解耦</a:t>
            </a: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，使得调用者和接收者不直接交互。</a:t>
            </a:r>
            <a:endParaRPr b="0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系统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需要在不同的时间指定请求、将请求排队和执行请求</a:t>
            </a: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系统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需要支持命令的撤销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(Undo)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操作和恢复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(Redo)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操作</a:t>
            </a: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系统</a:t>
            </a:r>
            <a:r>
              <a:rPr b="0" lang="zh-CN" sz="2200" spc="-1" strike="noStrike">
                <a:solidFill>
                  <a:srgbClr val="ff3300"/>
                </a:solidFill>
                <a:latin typeface="Tahoma"/>
              </a:rPr>
              <a:t>需要将一组操作组合在一起</a:t>
            </a:r>
            <a:r>
              <a:rPr b="0" lang="zh-CN" sz="2200" spc="-1" strike="noStrike">
                <a:solidFill>
                  <a:srgbClr val="333333"/>
                </a:solidFill>
                <a:latin typeface="Tahoma"/>
              </a:rPr>
              <a:t>，即支持宏命令。</a:t>
            </a:r>
            <a:endParaRPr b="0" lang="en-US" sz="2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1) Java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语言使用命令模式实现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AWT/Swing GUI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委派事件模型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(Delegation Event Model, DEM)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在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AWT/Swing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中，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rame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Button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等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界面组件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是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请求发送者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而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AWT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提供的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事件监听器接口和事件适配器类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是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抽象命令接口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用户可以自己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写抽象命令接口的子类来实现事件处理，即实现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</a:rPr>
              <a:t>具体命令类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，而在具体命令类中可以调用业务处理方法来实现该事件的处理。对于界面组件而言，只需要了解命令接口即可，无须关心接口的实现，组件类并不关心实际操作，而操作由用户来实现。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2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很多系统都提供了宏命令功能，如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UNIX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平台下的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hell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编程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可以将多条命令封装在一个命令对象中，只需要一条简单的命令即可执行一个命令序列，这也是命令模式的应用实例之一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撤销操作的实现</a:t>
            </a: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01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撤销操作的实现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18 Command\UndoDemo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3325680" y="3762360"/>
            <a:ext cx="2160360" cy="812160"/>
            <a:chOff x="3325680" y="3762360"/>
            <a:chExt cx="2160360" cy="812160"/>
          </a:xfrm>
        </p:grpSpPr>
        <p:pic>
          <p:nvPicPr>
            <p:cNvPr id="159" name="Picture 5" descr="gif005"/>
            <p:cNvPicPr/>
            <p:nvPr/>
          </p:nvPicPr>
          <p:blipFill>
            <a:blip r:embed="rId1"/>
            <a:stretch/>
          </p:blipFill>
          <p:spPr>
            <a:xfrm>
              <a:off x="3325680" y="376236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6"/>
            <p:cNvSpPr/>
            <p:nvPr/>
          </p:nvSpPr>
          <p:spPr>
            <a:xfrm>
              <a:off x="3686040" y="411480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宏命令又称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组合命令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它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命令模式和组合模式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联用的产物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宏命令也是一个具体命令，不过它包含了对其他命令对象的引用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在调用宏命令的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xecute(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方法时，将递归调用它所包含的每个成员命令的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xecute(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方法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一个宏命令的成员对象可以是简单命令，还可以继续是宏命令。执行一个宏命令将执行多个具体命令，从而实现对命令的批处理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软件设计中，我们经常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需要向某些对象发送请求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但是并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不知道请求的接收者是谁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也不知道被请求的操作是哪个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我们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只需在程序运行时指定具体的请求接收者即可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此时，可以使用命令模式来进行设计，使得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请求发送者与请求接收者消除彼此之间的耦合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让对象之间的调用关系更加灵活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宏命令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68280" y="1668600"/>
            <a:ext cx="85471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在命令模式中，将一个请求封装为一个对象，从而使我们可用不同的请求对客户进行参数化；对请求排队或者记录请求日志，以及支持可撤销的操作。命令模式是一种对象行为型模式，其别名为动作模式或事务模式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命令模式包含四个角色：抽象命令类中声明了用于执行请求的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ecute()</a:t>
            </a: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等方法，通过这些方法可以调用请求接收者的相关操作；具体命令类是抽象命令类的子类，实现了在抽象命令类中声明的方法，它对应具体的接收者对象，将接收者对象的动作绑定其中；调用者即请求的发送者，又称为请求者，它通过命令对象来执行请求；接收者执行与请求相关的操作，它具体实现对请求的业务处理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命令模式的本质是对命令进行封装，将发出命令的责任和执行命令的责任分割开。命令模式使请求本身成为一个对象，这个对象和其他对象一样可以被存储和传递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命令模式的主要优点在于降低系统的耦合度，增加新的命令很方便，而且可以比较容易地设计一个命令队列和宏命令，并方便地实现对请求的撤销和恢复；其主要缺点在于可能会导致某些系统有过多的具体命令类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ahoma"/>
              </a:rPr>
              <a:t>命令模式适用情况包括：需要将请求调用者和请求接收者解耦，使得调用者和接收者不直接交互；需要在不同的时间指定请求、将请求排队和执行请求；需要支持命令的撤销操作和恢复操作；需要将一组操作组合在一起，即支持宏命令。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END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1981080" y="2852640"/>
            <a:ext cx="53341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4876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命令模式可以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对发送者和接收者完全解耦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发送者与接收者之间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没有直接引用关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发送请求的对象只需要知道如何发送请求，而不必知道如何完成请求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这就是命令模式的模式动机。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命令模式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Command Pattern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将一个请求封装为一个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从而使我们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可用不同的请求对客户进行参数化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；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对请求排队或者记录请求日志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以及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支持可撤销的操作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命令模式是一种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对象行为型模式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其别名为动作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Action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或事务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Transaction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mmand Pattern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ncapsulate a request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as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an object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, thereby letting you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arameterize clients with different request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queue or log request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, and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upport undoable operation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requency of use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medium high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9" name="Picture 11" descr="use_medium_high"/>
          <p:cNvPicPr/>
          <p:nvPr/>
        </p:nvPicPr>
        <p:blipFill>
          <a:blip r:embed="rId1"/>
          <a:stretch/>
        </p:blipFill>
        <p:spPr>
          <a:xfrm>
            <a:off x="6172200" y="4343400"/>
            <a:ext cx="157176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命令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命令模式包含如下角色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mmand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抽象命令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ncreteCommand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具体命令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nvoker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调用者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ceiver: 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接收者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ent: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客户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伟</cp:lastModifiedBy>
  <dcterms:modified xsi:type="dcterms:W3CDTF">2011-10-22T09:06:11Z</dcterms:modified>
  <cp:revision>16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